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10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1C31-4603-49B7-88B0-6A4D9C5B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73BA-8A2D-4C34-93D2-4F0A2997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FD625-96BD-48E5-BDE9-96619515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08F071-155D-49CB-8EDD-3E2FC167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05B1A-5968-4A4C-AF78-93D241FC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F925F-B313-4A52-94E0-08C2F97F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D1991-0530-441F-93B1-0B6B91F1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7B3DC3-E283-4A41-8E33-76DA4D87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2027C-1CCE-4CF9-97E4-83D75A2C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EF226-4A83-45F2-A234-3DD9BD0E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010E8-652B-461F-B0DA-89BA4FA43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3ACE5-CE65-445A-8C53-09CA771C3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BF6-00BC-4B38-8076-82852BF7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54C37-8054-41BF-9E00-2643419C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2E735B-6CD6-4A29-B1A0-E81112E6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C3107-9562-460B-9327-E0653987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26695-EED0-42AC-9EE7-C88CDC87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668D5-EB2A-4E5A-95FB-4D37E25C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3EA19-57BC-456F-A0E2-D31D65E0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BE87CD-E80C-4EFB-BDAC-9972D5C8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36EDD8-E67B-4473-9C6B-C8599CA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C69896-4208-4B78-995B-8BC2BDE1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795A4-5D8E-4CF7-BEDF-212D32F8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654-05FA-447A-9B80-1E43FFA63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F08A2-34FA-43F6-B5BB-4D75470C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175057-74B2-4998-AD37-89B0F0DD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4682A-D584-4C69-AAD2-F669215A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DEF28-2FCC-49F1-8AD8-7AEBA070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12F2D-AF9B-4B4B-B902-ED71A97E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8C58C-5372-406B-82B2-C0F54E0C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41D20-C748-4DC4-A6A8-3B35BAEE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E57F2-477A-45D1-8F51-5B10D11A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8D102-8618-46BD-A98D-31C93111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44247-425B-44C4-8BFC-2F4AA978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366E-DC70-49C2-A47A-3AC5477C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0DCBD-F463-4232-8F42-8A3A6A45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2235F-7361-423B-B60A-131249B0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0ECB5B-4C51-434E-A7B5-FF232B8C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D2C9D-29ED-4194-9E49-F36F627FF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57221-7B64-4BDD-AAA5-CE8FBE2C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43F6B-4972-4FCE-A955-D21EEDF7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DEE56-AA72-4EF2-A2EE-48B235FB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A8801-4C54-483B-BB51-1669FB06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CA2D95-ABE4-4A81-840E-8DF30C3A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6FD4C-71F0-4F11-A082-D06456D9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574B-8C80-45FA-A34A-332CB33A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5CDBF-8F6B-44E5-ABBF-64A9AA25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21956-8475-48AB-94F6-560BA8B1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91C1CE-2630-4CF4-9DF3-EB923821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B4AEA-80C0-45B9-974F-F90DD97F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9D6AA-8B13-43A7-B2A1-AA7F92B34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81C37-0B8C-420A-88D1-2C57BF1C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2311E-C82D-4EBF-B4EB-1DD1C8D0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D74516-EB89-401C-BB38-810F081A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7FF826-9408-4FF2-A206-1F3DEEE4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B7E32C-EB4E-40F5-9980-CC91F07A5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3C17-AE63-449F-BEAA-63860D54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A0F356-48DE-4020-8F88-1C6D8366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0021A-8548-4FCD-9BBB-82BA6515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EF542-41A8-44C5-B999-C1C096F3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D120E-C6F9-453C-B7C7-EB9A41B1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DB287D-5283-4FF6-82DA-B8ADEC7C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AB6CF6-F206-44BE-A314-856B4D4A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FFFEA5-93CD-420B-A2A5-11CCC859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7C6EA-FBB1-4D7E-86B3-68958C16A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15E22A-2DB8-4DC5-B5AE-8CCB6CE57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CF362-8D42-4156-B129-14E959E2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B983-9EA2-4C62-B9E6-5F163257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E668A-2518-4AF1-A44A-DC4D8B9A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609374-C19C-4CC9-BD26-A4C15455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2D2F0-3537-47DA-AEFE-84715855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B2A7F-B4DA-4805-9665-DFF80579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4BED7-8171-4D5A-A37A-2F21D189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54F612-B5E8-42F1-B645-7C67977F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528148-BBE4-4D50-98DC-C13E9137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34989-F6E5-4553-8514-D23A65D4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AD3650-13E9-4E25-BFDA-963FC313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B69BBF-D76A-4C85-B680-A89DBC0F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353F-B1E9-493C-930E-4DAE05C0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3D05F5-FEE1-48DF-91A4-87E2475B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89938-B532-47D2-A9E5-F7699FED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E03DC3-53BE-44DC-8258-5EFA76CC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D53142-2D37-4E43-A697-A9A73C16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766338-C7AE-4EE0-B8A7-4A792B21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B97FD-EBD0-4CAE-B38C-1E996BC4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B0306B-70C8-45B8-9790-DA9197E2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1D34BE-48B3-4B43-925C-AF7A5990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9C979-2833-4BB8-A116-581D82BD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91D1A8-51C8-4905-ACAA-B4DCAAEF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C677-C2AA-480D-8EE7-62932656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52E7F-9B87-4A2C-96B6-F10E98F9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7198E-E795-4CD9-9E6C-0550AEBF5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24AB4-E8DD-4A7A-8E01-F2A250B81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83BB90-E21F-4A07-80EC-65ABD169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80279F-652E-4C76-BFAC-8AB569FA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C357C-C81C-456F-9337-821F3C63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00293A-7CC8-4A96-BD79-AC87244F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458298-8C1D-4163-A538-A22767D8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B2220D-4196-42B4-BAFC-E8ACEA1F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FF5991-59EB-43B9-B078-347991FC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F588-4433-4703-AA2E-F13BA130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C07DA-92D0-4B2F-86A1-8ACB0B8B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A9960-93C3-4157-872E-4FAE1978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FF3126-AE69-4703-9488-465B336D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48B-DE0F-472E-9B80-B3F0CAB7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D148-5F93-42F1-8173-FD8ED914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99E0-D392-4B10-9B6D-77EF749F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A2C3-6DEA-42DC-A3DE-DB47013B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6566-B7B7-4005-BCAB-1DAA75B1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30ED-9E15-4AC6-AD61-B5EB2C3E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0B2CC-3F1A-4A6F-A41A-AD5AF751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4CF93-10F6-41F7-AC32-6835F482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0CEA7-78BC-4120-ADDE-FD482688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17B54-B34D-4E39-B026-A513BD8B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AA840-07E9-429C-98DA-1E98781D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7ED7-1F2E-4882-A828-E5E43F71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2D647-C4BB-4455-8C82-03248962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25B1F-124E-4BF6-BC32-4414E39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C3E1-81A2-4A23-B0C3-D5AB0303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C99CA-D851-4CC4-A6D8-6AA8816A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728B6-5593-4907-8F18-A6C4C4B6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4AE2F-293B-4859-AA7A-AFC728F7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9821-6630-4E45-9AAA-1D6CE4DD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1F49A-111C-436A-8B4E-A34EB2E1E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C564D-1728-46B6-A5B2-AA4A2606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DFE93-A509-4BE6-80A6-C3031808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13D-B5BE-4E6E-A69A-76731C9B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CC9E-24D7-4EDA-9FD6-AA4A4472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F63E4-A2C4-455B-B01C-9721DF15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EFC2-CCC4-4DE5-9913-8D29F4C6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2B2C5-DC8F-4DF1-8EC3-ECF15DB7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44203-4B4C-4C91-96E8-1AEF72C5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F6472-FF51-45EE-901A-6B35CC04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B24BD-0D88-4FB4-9317-916F7EA9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6D6C-F03D-4AAE-B9ED-D8F004C7F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F04D-F9FD-42AF-90B2-06B39C84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2CE7A-D0F6-4624-8954-015475C3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3D06-8B22-4309-8243-E074A415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5E65B-F081-4332-85AA-D167E4A6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0D08F-DFE1-4247-AADD-94F37286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84BC-5E01-448A-ACB8-1B611B03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4FCC-F553-40F3-925E-B3B35C87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7007A-A621-428D-8B89-FEE2227C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03B80-17BE-49CC-9837-C5CB7283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AF4B2-7C6B-4B77-A692-8866A4DA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B0A31-2A9E-4CBE-B73C-BB0B88E4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D88B5-B7B4-476D-8A37-E7D0FB16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0A971-D674-4924-A8E8-CD404857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12D-CBD5-44A9-8604-020E7F53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51B5B-AE85-4022-BF22-DA306B955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2AD63-F47C-437F-8DCA-C13C98F1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EBBA8-A3DC-42B6-835E-05274678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7CECB-9BE3-44BE-82D7-18AFBC3D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6CF75-2528-48CD-864A-74560378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E4DA8-36B6-4248-83A3-BF53BCFA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B796F-C4DD-4BB7-87B8-8E88D6A4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FB098-6A3F-4FB4-A7AB-C963031A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EBAA0-6E62-41B6-9BBE-9CF9DEDD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E5CEE-662E-49D4-AC29-6EF2ED23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29B-FF63-47BE-8C17-2C4236F2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361ED-9E0E-43C6-872F-EF07342A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B8B06-2A70-4622-B9E6-4030B03D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53A4-C662-437E-8BE7-E66C6F78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C1B91-D905-40B8-8410-41C5F367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C7325-7213-47A8-B019-32576303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CCD53-23C7-4D51-9AF7-01524EF3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D2BF0-48F7-437F-BBC8-E2105EDF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B0206-8409-49C0-A610-FB232722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BB1F8-FF0B-42D8-A330-E8991D1E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1E288-7B77-4235-9D86-108A7CF30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BC0-5C0E-42D4-9F62-871542FE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A79FD-A7E8-4CE1-9E94-0DD65AFD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C4B2D-1680-4CAA-A6DB-EFAE23C9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1E299-5D41-425B-B904-85F2F33A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ECECB-B790-4215-82E8-B201D2DF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3DE66-9355-4E78-B03A-4BA5DB44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198EE-4B06-4F00-8E04-43C602290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4E642-80F3-43CB-AE51-7F56A0D7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F9FCF-24FF-4935-900B-ACD93489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FBF54-383C-4C45-AF9C-0938489F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30BA5-BDA3-4F11-9454-90C0E12E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429-399A-49FA-9186-A235B151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FD4E8-C52C-4BE5-9513-1E30F9C2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39577-5C31-4776-AE06-CCD03BDC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5AAE6-2707-42AA-8E38-924B9E8B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2EB1D-EAE6-4DFB-A41C-8F46BD7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BBC23-AB72-48B7-87C7-5D663232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F354E-0215-4C8B-8A72-8D2FDD20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1995D-D3B1-4457-A891-95AD5166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9FF72-8ABF-4EA9-B058-C2C90663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5D008-C17C-4945-9618-F79CCD57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284D6-5CB8-4DFF-896E-E3A2E9B7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0C27-675E-4632-A3E2-B16472DE6F2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B532-3519-44EC-8891-63E7D8B5A8A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F567-94C2-4F3B-A51A-F2183393266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9C88-24E8-4EFE-82E4-9B2311DD346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FC2D-406A-4CC2-9856-0B0D534865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AC30-A313-4A18-95D7-92085AB4258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89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90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93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2C64-78A0-43D2-A544-7C3EE6BDD35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8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AB47-76E7-4E2D-9EE5-923C6EABFB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F30D-CB3A-41FB-B7FD-5E39C7ECF09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1B64-4BC8-4878-9AEB-F70D1C3F624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57F4-89B0-401C-8819-91860AEDB24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427A-6CE0-48A6-BE66-4F52DF6BB0A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4057-A09F-4C07-A917-4F7EA492DB4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FE2D7-A9FB-44B7-83A6-65FA9C72BF0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CC55-47E2-4CCE-BB37-F3B3CE3FE1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5DB3-4FD5-4A69-BF51-586790FB9A4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bionet-skola.com/w/Slika:Osmozaieritrociti.jpg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Rectangle 2" descr=""/>
          <p:cNvPicPr/>
          <p:nvPr/>
        </p:nvPicPr>
        <p:blipFill>
          <a:blip r:embed="rId1"/>
          <a:stretch/>
        </p:blipFill>
        <p:spPr>
          <a:xfrm>
            <a:off x="-1620720" y="1127160"/>
            <a:ext cx="8564400" cy="192096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4" descr="Animal Cells and the Membrane-Bound Nucleus"/>
          <p:cNvPicPr/>
          <p:nvPr/>
        </p:nvPicPr>
        <p:blipFill>
          <a:blip r:embed="rId2"/>
          <a:stretch/>
        </p:blipFill>
        <p:spPr>
          <a:xfrm>
            <a:off x="2556000" y="3130560"/>
            <a:ext cx="4968720" cy="37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1" lang="vi-VN" sz="5000" spc="-1" strike="noStrike">
                <a:solidFill>
                  <a:srgbClr val="04617b"/>
                </a:solidFill>
                <a:latin typeface="Arial"/>
              </a:rPr>
              <a:t>Pro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Rectangle 4"/>
          <p:cNvSpPr/>
          <p:nvPr/>
        </p:nvSpPr>
        <p:spPr>
          <a:xfrm>
            <a:off x="0" y="1916280"/>
            <a:ext cx="4284720" cy="43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cle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 differentiated 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embrane-bou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number of organel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ibosomes) in the 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3" name="Picture 6" descr="Prokaryotic Cell: Definition, Examples, &amp; Structure"/>
          <p:cNvPicPr/>
          <p:nvPr/>
        </p:nvPicPr>
        <p:blipFill>
          <a:blip r:embed="rId1"/>
          <a:stretch/>
        </p:blipFill>
        <p:spPr>
          <a:xfrm>
            <a:off x="4235400" y="1700280"/>
            <a:ext cx="4692600" cy="4332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Eukaryotic ce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179280" y="1557360"/>
            <a:ext cx="662472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compon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org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l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5" descr="Prokaryotic Cell - Definition, Examples &amp; Structure | Biology Dictionary"/>
          <p:cNvPicPr/>
          <p:nvPr/>
        </p:nvPicPr>
        <p:blipFill>
          <a:blip r:embed="rId1"/>
          <a:stretch/>
        </p:blipFill>
        <p:spPr>
          <a:xfrm>
            <a:off x="4284720" y="2276640"/>
            <a:ext cx="4610160" cy="3809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AND PLANT CELL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68000" y="5229360"/>
            <a:ext cx="5148360" cy="138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elles presen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ly in a plant ce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9" name="Picture 7" descr="Plant vs. Animal Cells | Biology Dictionary"/>
          <p:cNvPicPr/>
          <p:nvPr/>
        </p:nvPicPr>
        <p:blipFill>
          <a:blip r:embed="rId1"/>
          <a:stretch/>
        </p:blipFill>
        <p:spPr>
          <a:xfrm>
            <a:off x="611280" y="1125360"/>
            <a:ext cx="7794360" cy="3780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811" name="Picture 5" descr="Cell Membrane Structure and Function - YouTube"/>
          <p:cNvPicPr/>
          <p:nvPr/>
        </p:nvPicPr>
        <p:blipFill>
          <a:blip r:embed="rId1"/>
          <a:stretch/>
        </p:blipFill>
        <p:spPr>
          <a:xfrm>
            <a:off x="539640" y="1989000"/>
            <a:ext cx="7380360" cy="4151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Lipid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8000" y="1935000"/>
            <a:ext cx="562608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rane contai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ospholipi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 have 2 part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 (polar) – hydrophil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 (non-polar) –hydrophobi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facing each other wi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ir hydrophobic par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Glycolipi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holester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24000" y="5805360"/>
            <a:ext cx="77040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and proteins are constantly mo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5" name="Picture 7" descr="4.7: Eukaryotic Cells - The Plasma Membrane and the Cytoplasm - Biology  LibreTexts"/>
          <p:cNvPicPr/>
          <p:nvPr/>
        </p:nvPicPr>
        <p:blipFill>
          <a:blip r:embed="rId1"/>
          <a:stretch/>
        </p:blipFill>
        <p:spPr>
          <a:xfrm>
            <a:off x="5076720" y="2421000"/>
            <a:ext cx="4067280" cy="274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2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oteins</a:t>
            </a:r>
            <a:br>
              <a:rPr sz="32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pt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and channels - participate in the transport of molecules through the membra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18" name="Picture 6" descr="Protein Function | Learn Science at Scitable"/>
          <p:cNvPicPr/>
          <p:nvPr/>
        </p:nvPicPr>
        <p:blipFill>
          <a:blip r:embed="rId1"/>
          <a:stretch/>
        </p:blipFill>
        <p:spPr>
          <a:xfrm>
            <a:off x="755640" y="4221000"/>
            <a:ext cx="7989840" cy="2637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Membrane transport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39640" y="2468520"/>
            <a:ext cx="8229600" cy="34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assive transport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out energy consumption, due to the difference in concentration on one and the other side of the membran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Active transpor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takes place with energy, against the concentration gradie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as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630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Simple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through the membrane down the concentration gradient, until the concentrations are equalized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ubstances soluble in lipids, gase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Osmosi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diffusion of water through the membrane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pposite to the concentration gradient (from lower to higher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Facilitated diffusion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transport of molecules through the membrane using carrier proteins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glucose  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regulated by hormones (glucose-insulin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4" name="Picture 3" descr="300px-400px-Diffusion"/>
          <p:cNvPicPr/>
          <p:nvPr/>
        </p:nvPicPr>
        <p:blipFill>
          <a:blip r:embed="rId1">
            <a:lum contrast="60000"/>
          </a:blip>
          <a:srcRect l="0" t="0" r="0" b="19612"/>
          <a:stretch/>
        </p:blipFill>
        <p:spPr>
          <a:xfrm>
            <a:off x="6227640" y="1484280"/>
            <a:ext cx="2627280" cy="115272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5" descr="300px-Osmozaieritrociti">
            <a:hlinkClick r:id="rId2"/>
          </p:cNvPr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248520" y="3068640"/>
            <a:ext cx="2895480" cy="151452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6" descr="GB1-os19"/>
          <p:cNvPicPr/>
          <p:nvPr/>
        </p:nvPicPr>
        <p:blipFill>
          <a:blip r:embed="rId4">
            <a:lum contrast="6000"/>
          </a:blip>
          <a:srcRect l="0" t="21758" r="0" b="12803"/>
          <a:stretch/>
        </p:blipFill>
        <p:spPr>
          <a:xfrm>
            <a:off x="6180120" y="5281560"/>
            <a:ext cx="2963880" cy="157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8920" y="1988640"/>
            <a:ext cx="4537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dium-potassium pum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active transport of molecu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part with the lower to the part with the higher con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arrier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of energy (AT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2286000" y="25588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Picture 7" descr="Sodium-Potassium pump which uses ATP to pump sodium ions out of the... |  Download Scientific Diagram"/>
          <p:cNvPicPr/>
          <p:nvPr/>
        </p:nvPicPr>
        <p:blipFill>
          <a:blip r:embed="rId1"/>
          <a:stretch/>
        </p:blipFill>
        <p:spPr>
          <a:xfrm>
            <a:off x="4716360" y="2133720"/>
            <a:ext cx="4176720" cy="4174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ransport of large molecul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78120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nd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hagocytosis, pinocytosis) - bringing molecules into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xocyt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emoving of undigested substances from the cell into the external environme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3" name="Picture 19" descr="image007"/>
          <p:cNvPicPr/>
          <p:nvPr/>
        </p:nvPicPr>
        <p:blipFill>
          <a:blip r:embed="rId1"/>
          <a:stretch/>
        </p:blipFill>
        <p:spPr>
          <a:xfrm>
            <a:off x="6372360" y="260280"/>
            <a:ext cx="2771640" cy="20829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24" descr="imag-endocistosis"/>
          <p:cNvPicPr/>
          <p:nvPr/>
        </p:nvPicPr>
        <p:blipFill>
          <a:blip r:embed="rId2"/>
          <a:stretch/>
        </p:blipFill>
        <p:spPr>
          <a:xfrm>
            <a:off x="6516720" y="4230720"/>
            <a:ext cx="2363760" cy="2627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asic structur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all living organism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ell is t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mallest functional uni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can perform all life process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s the interior of the ce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the part of the cytoplasm in which they are locatedcell organelles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YTOSOL + ORGANELES = CYTOPLA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37" name="Picture 5" descr="Cell parts and their functions | Cells and organisms | Middle school  biology | Khan Academy - YouTube"/>
          <p:cNvPicPr/>
          <p:nvPr/>
        </p:nvPicPr>
        <p:blipFill>
          <a:blip r:embed="rId1"/>
          <a:stretch/>
        </p:blipFill>
        <p:spPr>
          <a:xfrm>
            <a:off x="2685960" y="4437000"/>
            <a:ext cx="4046760" cy="227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9" name="Rectangle 2"/>
          <p:cNvSpPr/>
          <p:nvPr/>
        </p:nvSpPr>
        <p:spPr>
          <a:xfrm>
            <a:off x="250920" y="4581360"/>
            <a:ext cx="48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s of eukaryotes (80S) consist of 2 subuni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(60S)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(40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"/>
          <p:cNvSpPr/>
          <p:nvPr/>
        </p:nvSpPr>
        <p:spPr>
          <a:xfrm>
            <a:off x="0" y="1700280"/>
            <a:ext cx="608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oth prokaryotic and eukaryotic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role in protein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 in the cytoplas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outer nuclear 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membrane of the granular 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Picture 7" descr="Structure Eukaryotic Ribosome 80S Ribosome Showing Smaller and Larger  Subunit Stock Illustration - Illustration of microscopic, anatomy: 200726002"/>
          <p:cNvPicPr/>
          <p:nvPr/>
        </p:nvPicPr>
        <p:blipFill>
          <a:blip r:embed="rId1"/>
          <a:srcRect l="0" t="-1313" r="0" b="29713"/>
          <a:stretch/>
        </p:blipFill>
        <p:spPr>
          <a:xfrm>
            <a:off x="5003640" y="3862440"/>
            <a:ext cx="3961080" cy="2995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DOPLASMATIC RETICULUME - ER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843" name="Object 3"/>
          <p:cNvGraphicFramePr/>
          <p:nvPr/>
        </p:nvGraphicFramePr>
        <p:xfrm>
          <a:off x="2050920" y="3068640"/>
          <a:ext cx="315288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3068640"/>
                    <a:ext cx="315288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5" name="Rectangle 3"/>
          <p:cNvSpPr/>
          <p:nvPr/>
        </p:nvSpPr>
        <p:spPr>
          <a:xfrm>
            <a:off x="108000" y="1557360"/>
            <a:ext cx="345600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uge 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s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 of protein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"/>
          <p:cNvSpPr/>
          <p:nvPr/>
        </p:nvSpPr>
        <p:spPr>
          <a:xfrm>
            <a:off x="5364000" y="1413000"/>
            <a:ext cx="35276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Smooth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 Е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ooth, without ribos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of synthesis of lipids and steroid horm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connected to the Golgi appar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s a role in regulating the level of Ca in muscle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496360" cy="85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4900" spc="-1" strike="noStrike">
                <a:solidFill>
                  <a:srgbClr val="000000"/>
                </a:solidFill>
                <a:latin typeface="Arial"/>
              </a:rPr>
              <a:t>olgi apparatus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8" name="Rectangle 3"/>
          <p:cNvSpPr/>
          <p:nvPr/>
        </p:nvSpPr>
        <p:spPr>
          <a:xfrm>
            <a:off x="324000" y="2133720"/>
            <a:ext cx="8064360" cy="41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ory organ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 developed in glandular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of membranes – cis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key role in the modification and sorting of macromolecu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2" descr="Molecular Expressions Cell Biology: The Golgi Apparatus"/>
          <p:cNvPicPr/>
          <p:nvPr/>
        </p:nvPicPr>
        <p:blipFill>
          <a:blip r:embed="rId1"/>
          <a:stretch/>
        </p:blipFill>
        <p:spPr>
          <a:xfrm>
            <a:off x="5888160" y="1700280"/>
            <a:ext cx="3255840" cy="25146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4" name="Rectangle 3"/>
          <p:cNvSpPr/>
          <p:nvPr/>
        </p:nvSpPr>
        <p:spPr>
          <a:xfrm>
            <a:off x="0" y="2468520"/>
            <a:ext cx="442764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ell 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ro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evel of 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other substances in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395280" y="1484280"/>
            <a:ext cx="3728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7" descr="Mitochondria: Form, function, and disease"/>
          <p:cNvPicPr/>
          <p:nvPr/>
        </p:nvPicPr>
        <p:blipFill>
          <a:blip r:embed="rId1"/>
          <a:stretch/>
        </p:blipFill>
        <p:spPr>
          <a:xfrm>
            <a:off x="4211640" y="1695600"/>
            <a:ext cx="4932360" cy="3730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ucle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5363640" y="2060640"/>
            <a:ext cx="403884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ar membra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ucleoplasma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hromat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cleol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59" name="Picture 6" descr="Nucleus- Definition, Structure, Parts, Functions, Diagram"/>
          <p:cNvPicPr/>
          <p:nvPr/>
        </p:nvPicPr>
        <p:blipFill>
          <a:blip r:embed="rId1"/>
          <a:stretch/>
        </p:blipFill>
        <p:spPr>
          <a:xfrm>
            <a:off x="179280" y="1825560"/>
            <a:ext cx="5073840" cy="4105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1042560" y="1196640"/>
            <a:ext cx="7210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elles present only in a plant cel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179280" y="2707920"/>
            <a:ext cx="8964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lipoprotein membrane and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osomes and circular DNA in the strom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 бити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1. chlor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hlorophyll- participate in photosynthes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 chrom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ntain carotenoids, yellow and orange pigments- they give color to the leaves in autum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cca62"/>
                </a:solidFill>
                <a:latin typeface="Arial"/>
              </a:rPr>
              <a:t>3. leukoplas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ithout pigment- synthesize starch, fats, protein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3" name="Picture 6" descr="Plastids - Definition, Classification, Structure, Functions - GeeksforGeeks"/>
          <p:cNvPicPr/>
          <p:nvPr/>
        </p:nvPicPr>
        <p:blipFill>
          <a:blip r:embed="rId1"/>
          <a:stretch/>
        </p:blipFill>
        <p:spPr>
          <a:xfrm>
            <a:off x="5580000" y="836640"/>
            <a:ext cx="3203640" cy="190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79280" y="2420640"/>
            <a:ext cx="43214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ole membrane – tonopl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age sites of various metaboli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contain dissolved pig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6" name="Picture 6" descr="Molecular Expressions Cell Biology: Plant Cell Structure - Vacuoles"/>
          <p:cNvPicPr/>
          <p:nvPr/>
        </p:nvPicPr>
        <p:blipFill>
          <a:blip r:embed="rId1"/>
          <a:stretch/>
        </p:blipFill>
        <p:spPr>
          <a:xfrm>
            <a:off x="4606920" y="1773360"/>
            <a:ext cx="4537080" cy="4189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8000" y="234900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ulo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lamella (intercellular substanc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wall (cellulos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wall (when the cell stops growing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69" name="Picture 6" descr="Cell Wall - Definition, Cell Wall Function, Cell Wall Layers"/>
          <p:cNvPicPr/>
          <p:nvPr/>
        </p:nvPicPr>
        <p:blipFill>
          <a:blip r:embed="rId1"/>
          <a:stretch/>
        </p:blipFill>
        <p:spPr>
          <a:xfrm>
            <a:off x="539640" y="4714920"/>
            <a:ext cx="4287960" cy="2143080"/>
          </a:xfrm>
          <a:prstGeom prst="rect">
            <a:avLst/>
          </a:prstGeom>
          <a:ln w="0">
            <a:noFill/>
          </a:ln>
        </p:spPr>
      </p:pic>
      <p:pic>
        <p:nvPicPr>
          <p:cNvPr id="870" name="Picture 8" descr="Cell Wall: Definition, Structure, &amp; Functions with Diagram"/>
          <p:cNvPicPr/>
          <p:nvPr/>
        </p:nvPicPr>
        <p:blipFill>
          <a:blip r:embed="rId2"/>
          <a:stretch/>
        </p:blipFill>
        <p:spPr>
          <a:xfrm>
            <a:off x="5076720" y="1844640"/>
            <a:ext cx="3527640" cy="3529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 THEORY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organism is made up of one or more cells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the basic units of an organism's structure and function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created by the division of mother cell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versity of the cells of an organism is the result of differences in: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l organiza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hemical structure of the cell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elements in the cell - biogenic elements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elements (O, C, H, N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elements (Fe, Mn, Cu...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000" spc="-1" strike="noStrike">
                <a:solidFill>
                  <a:srgbClr val="000000"/>
                </a:solidFill>
                <a:latin typeface="Arial"/>
              </a:rPr>
              <a:t>Inorganic compound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792" name="Picture 4" descr="mini-2"/>
          <p:cNvPicPr/>
          <p:nvPr/>
        </p:nvPicPr>
        <p:blipFill>
          <a:blip r:embed="rId1"/>
          <a:stretch/>
        </p:blipFill>
        <p:spPr>
          <a:xfrm>
            <a:off x="9058320" y="3822840"/>
            <a:ext cx="85680" cy="85680"/>
          </a:xfrm>
          <a:prstGeom prst="rect">
            <a:avLst/>
          </a:prstGeom>
          <a:ln w="0">
            <a:noFill/>
          </a:ln>
        </p:spPr>
      </p:pic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Wa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main component, makes up 50-95% of the cell's weight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water in the cell depends on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al activities of the cell (tooth dentin 10% water) and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ag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water is: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solven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environment for metabolic reactions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regulation and osmoregulation</a:t>
            </a:r>
            <a:r>
              <a:rPr b="0" lang="en-US" sz="2400" spc="-1" strike="noStrike">
                <a:solidFill>
                  <a:srgbClr val="f9070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Inorganic salt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ons (chlorides, carbonates, phosphates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ions (K+, Na+, Ca2+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oluble precipitates in the cel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d in water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ole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abolic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Organic compound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539640" y="2636640"/>
            <a:ext cx="822960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bohydrates [sugar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pids [fats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ic acids [DNA and RNA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types of cell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mplexity of the structure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76000" y="2923920"/>
            <a:ext cx="6489720" cy="31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ukaryotic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4:06:49Z</dcterms:created>
  <dc:creator>User</dc:creator>
  <dc:description/>
  <dc:language>en-US</dc:language>
  <cp:lastModifiedBy>Korisnik</cp:lastModifiedBy>
  <dcterms:modified xsi:type="dcterms:W3CDTF">2022-10-03T12:45:18Z</dcterms:modified>
  <cp:revision>108</cp:revision>
  <dc:subject/>
  <dc:title>ĆELIJA</dc:title>
</cp:coreProperties>
</file>